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9927-3100-459B-B685-8B1F47FA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18C02-9465-4585-A085-3D0A7D1C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F5314-DCD9-4198-B2F5-42C07BD3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906C6-0844-4F7B-AC93-2EDFA68D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09F8-F951-4720-88CA-1971AB19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2F7C-1A38-4AF9-9B36-4BC608D5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79D9-FEDD-4887-8093-112A7993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982A-4956-441A-A48A-6F7840DF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EF51-1F4F-462E-8475-6EA83C59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5EBA-4856-4BEF-9525-AFF66ACF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BF90-5640-45B3-A86D-BF045EC9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A01E6-35CB-430D-B86E-7E8F6A47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C78E-3907-40CA-8580-DEF3679A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7A29-8914-4668-B9C0-6F9AA321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4F9A-D8A4-4FAD-A9B1-934DF76B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9906-2B88-4F51-8D97-4A2073C2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5AB1-1C08-40F9-9D44-EAEF998C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C1170-93EE-47C4-B0BB-26AA561F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AD13B-73D6-4A5D-A748-FD4641C5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81D09-FC1F-481D-8066-1517C9E2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B1E3A-C248-46E5-90E9-B324DCD9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945AA-FAA1-45D7-8D1D-CE3D243F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B6A66-56D6-4C98-937E-779D09ED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4F69D-355B-4CEE-9197-D5B6E38B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C719-8463-40DE-89BE-D5A73E4E24E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A670-00E1-430D-83D0-9E3A2B76EAF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972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78 (375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Доде се скитам, Отче мо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тоз свят, далеч от дома Тв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учи ме кратката молба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бъде волята Твоя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75176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Ако най-милото мо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зискаш - то е пак Тво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е го отдам и ще река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бъде волята Твоя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75176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Ако усамотен, унил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кърбя за скъп умрял мой мил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з пак с покорност ще река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бъде волята Твоя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75176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 Преобрази ми воля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отнеми все, що сег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епятствува ми да река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бъде волята Твоя!"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20:52Z</dcterms:modified>
  <cp:revision>111</cp:revision>
  <dc:subject/>
  <dc:title>Slide 1</dc:title>
</cp:coreProperties>
</file>